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08-1B0C-4633-8616-54F3F231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7BE-8EAD-4E27-8480-96B5E77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DA2-1520-47F3-9ABF-AB4C67F1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D37-A44A-4555-9AE5-ADBA12E4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985-7B3D-4B8B-9309-B1BB09F9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638-E251-42DB-AF14-E07F21F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B45-62D2-48CD-8E2D-A5DB1FA0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51A-1372-4347-B77A-1B9A67B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4B1-CAB6-497F-8916-0FE98235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B96-5A98-49E6-8F3D-050DF96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79A-569D-478F-8804-362CFEA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CF7-A1B9-4EC2-9AA9-DBDFA8A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18D-CC39-4BB5-A295-E0CBDD66D25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f1.fr/jeux/tv/qvgdmpre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2608200" y="2095560"/>
            <a:ext cx="3929040" cy="2666880"/>
            <a:chOff x="2608200" y="2095560"/>
            <a:chExt cx="3929040" cy="2666880"/>
          </a:xfrm>
        </p:grpSpPr>
        <p:sp>
          <p:nvSpPr>
            <p:cNvPr id="42" name="Rectangle 3"/>
            <p:cNvSpPr/>
            <p:nvPr/>
          </p:nvSpPr>
          <p:spPr>
            <a:xfrm>
              <a:off x="2608200" y="209556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43" name="Group 7"/>
            <p:cNvGrpSpPr/>
            <p:nvPr/>
          </p:nvGrpSpPr>
          <p:grpSpPr>
            <a:xfrm>
              <a:off x="2608200" y="2095560"/>
              <a:ext cx="2143080" cy="2666880"/>
              <a:chOff x="2608200" y="2095560"/>
              <a:chExt cx="2143080" cy="2666880"/>
            </a:xfrm>
          </p:grpSpPr>
          <p:sp>
            <p:nvSpPr>
              <p:cNvPr id="44" name="Rectangle 4"/>
              <p:cNvSpPr/>
              <p:nvPr/>
            </p:nvSpPr>
            <p:spPr>
              <a:xfrm>
                <a:off x="2608200" y="209556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2608200" y="2095560"/>
                <a:ext cx="2143080" cy="26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  </a:t>
                </a:r>
                <a:r>
                  <a:rPr b="0" lang="en-GB" sz="14900" spc="-1" strike="noStrike">
                    <a:solidFill>
                      <a:srgbClr val="ffffff"/>
                    </a:solidFill>
                    <a:latin typeface="Arial Unicode MS"/>
                  </a:rPr>
                  <a:t> 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                                      </a:t>
                </a: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pic>
        <p:nvPicPr>
          <p:cNvPr id="46" name="Picture 6" descr="http://up.tf1.fr/mmdia/100/105/7/89907.JPG"/>
          <p:cNvPicPr/>
          <p:nvPr/>
        </p:nvPicPr>
        <p:blipFill>
          <a:blip r:embed="rId1"/>
          <a:stretch/>
        </p:blipFill>
        <p:spPr>
          <a:xfrm>
            <a:off x="2514600" y="2362320"/>
            <a:ext cx="3684600" cy="3176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438280" y="7621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¡Necesito un volontario!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8" name="final_music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4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52680" y="3505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5867280" y="3505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to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35268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z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638680" y="4495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b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64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65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66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67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69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71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73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74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75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76" name="ask_full_length.mp3" descr=""/>
          <p:cNvPicPr/>
          <p:nvPr/>
        </p:nvPicPr>
        <p:blipFill>
          <a:blip r:embed="rId4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7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bul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2590920" y="838080"/>
            <a:ext cx="5105160" cy="19814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0958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327672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r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92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94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96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97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98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00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01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02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03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ask_full_length.mp3" descr=""/>
          <p:cNvPicPr/>
          <p:nvPr/>
        </p:nvPicPr>
        <p:blipFill>
          <a:blip r:embed="rId5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goa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9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3352680" y="3505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lculador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jo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18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19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1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23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5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27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28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29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30" name="ask_full_length.mp3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1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8"/>
          <p:cNvSpPr/>
          <p:nvPr/>
        </p:nvSpPr>
        <p:spPr>
          <a:xfrm>
            <a:off x="3571920" y="129528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horse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3352680" y="3505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s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b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3048120" y="4495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58672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45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46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48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50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1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52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54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55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56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ask_full_length.mp3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58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reepy crawly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56437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5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6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352680" y="3505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estudi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601992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nt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350532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observ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escribi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72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73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75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77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78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379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380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81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382" name="Picture 25" descr="http://mmdia.tf1.fr/mmdia/100/105/16/124316.GIF"/>
          <p:cNvPicPr/>
          <p:nvPr/>
        </p:nvPicPr>
        <p:blipFill>
          <a:blip r:embed="rId2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83" name="ask_audience.mp3" descr=""/>
          <p:cNvPicPr/>
          <p:nvPr/>
        </p:nvPicPr>
        <p:blipFill>
          <a:blip r:embed="rId3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4" name="ask_full_length.mp3" descr=""/>
          <p:cNvPicPr/>
          <p:nvPr/>
        </p:nvPicPr>
        <p:blipFill>
          <a:blip r:embed="rId4"/>
          <a:stretch/>
        </p:blipFill>
        <p:spPr>
          <a:xfrm>
            <a:off x="4572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8" descr="http://mmdia.tf1.fr/mmdia/100/105/14/124314.GIF"/>
          <p:cNvPicPr/>
          <p:nvPr/>
        </p:nvPicPr>
        <p:blipFill>
          <a:blip r:embed="rId5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386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to pain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56437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5638680" y="4419720"/>
            <a:ext cx="2590920" cy="866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boni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3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3571920" y="342900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retr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019920" y="35053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divertid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357720" y="44956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roj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399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0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1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02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4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5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06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08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09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10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ask_audience.mp3" descr=""/>
          <p:cNvPicPr/>
          <p:nvPr/>
        </p:nvPicPr>
        <p:blipFill>
          <a:blip r:embed="rId4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2" name="ask_full_length.mp3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portrai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2643120" y="3286080"/>
            <a:ext cx="2971800" cy="68580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5638680" y="3276720"/>
            <a:ext cx="2590920" cy="68580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2666880" y="335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queñ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601992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z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327672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lo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5867280" y="4495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ája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25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26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28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30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32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434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436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437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ask_full_length.mp3" descr=""/>
          <p:cNvPicPr/>
          <p:nvPr/>
        </p:nvPicPr>
        <p:blipFill>
          <a:blip r:embed="rId5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9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bird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2"/>
          <p:cNvGrpSpPr/>
          <p:nvPr/>
        </p:nvGrpSpPr>
        <p:grpSpPr>
          <a:xfrm>
            <a:off x="2608200" y="2095560"/>
            <a:ext cx="3929040" cy="2666880"/>
            <a:chOff x="2608200" y="2095560"/>
            <a:chExt cx="3929040" cy="2666880"/>
          </a:xfrm>
        </p:grpSpPr>
        <p:sp>
          <p:nvSpPr>
            <p:cNvPr id="442" name="Rectangle 3"/>
            <p:cNvSpPr/>
            <p:nvPr/>
          </p:nvSpPr>
          <p:spPr>
            <a:xfrm>
              <a:off x="2608200" y="209556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443" name="Group 4"/>
            <p:cNvGrpSpPr/>
            <p:nvPr/>
          </p:nvGrpSpPr>
          <p:grpSpPr>
            <a:xfrm>
              <a:off x="2608200" y="2095560"/>
              <a:ext cx="2143080" cy="2666880"/>
              <a:chOff x="2608200" y="2095560"/>
              <a:chExt cx="2143080" cy="2666880"/>
            </a:xfrm>
          </p:grpSpPr>
          <p:sp>
            <p:nvSpPr>
              <p:cNvPr id="444" name="Rectangle 5"/>
              <p:cNvSpPr/>
              <p:nvPr/>
            </p:nvSpPr>
            <p:spPr>
              <a:xfrm>
                <a:off x="2608200" y="209556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445" name="Rectangle 6"/>
              <p:cNvSpPr/>
              <p:nvPr/>
            </p:nvSpPr>
            <p:spPr>
              <a:xfrm>
                <a:off x="2608200" y="2095560"/>
                <a:ext cx="2143080" cy="26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  </a:t>
                </a:r>
                <a:r>
                  <a:rPr b="0" lang="en-GB" sz="14900" spc="-1" strike="noStrike">
                    <a:solidFill>
                      <a:srgbClr val="ffffff"/>
                    </a:solidFill>
                    <a:latin typeface="Arial Unicode MS"/>
                  </a:rPr>
                  <a:t> </a:t>
                </a:r>
                <a:r>
                  <a:rPr b="0" lang="en-GB" sz="2000" spc="-1" strike="noStrike">
                    <a:solidFill>
                      <a:srgbClr val="ffffff"/>
                    </a:solidFill>
                    <a:latin typeface="Arial Unicode MS"/>
                  </a:rPr>
                  <a:t>                                      </a:t>
                </a: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pic>
        <p:nvPicPr>
          <p:cNvPr id="446" name="Picture 7" descr="http://up.tf1.fr/mmdia/100/105/7/89907.JPG"/>
          <p:cNvPicPr/>
          <p:nvPr/>
        </p:nvPicPr>
        <p:blipFill>
          <a:blip r:embed="rId1"/>
          <a:stretch/>
        </p:blipFill>
        <p:spPr>
          <a:xfrm>
            <a:off x="2514600" y="2362320"/>
            <a:ext cx="3684600" cy="3176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8"/>
          <p:cNvSpPr/>
          <p:nvPr/>
        </p:nvSpPr>
        <p:spPr>
          <a:xfrm>
            <a:off x="243828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¡Has ganado!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48" name="final_music.mp3" descr=""/>
          <p:cNvPicPr/>
          <p:nvPr/>
        </p:nvPicPr>
        <p:blipFill>
          <a:blip r:embed="rId2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3619440" y="2370240"/>
            <a:ext cx="1357200" cy="2117520"/>
            <a:chOff x="3619440" y="2370240"/>
            <a:chExt cx="1357200" cy="2117520"/>
          </a:xfrm>
        </p:grpSpPr>
        <p:sp>
          <p:nvSpPr>
            <p:cNvPr id="50" name="Rectangle 3"/>
            <p:cNvSpPr/>
            <p:nvPr/>
          </p:nvSpPr>
          <p:spPr>
            <a:xfrm>
              <a:off x="3619440" y="2370240"/>
              <a:ext cx="135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3619440" y="2370240"/>
              <a:ext cx="1357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109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52" name="Group 6"/>
          <p:cNvGrpSpPr/>
          <p:nvPr/>
        </p:nvGrpSpPr>
        <p:grpSpPr>
          <a:xfrm>
            <a:off x="4191120" y="3733920"/>
            <a:ext cx="3929040" cy="2879640"/>
            <a:chOff x="4191120" y="3733920"/>
            <a:chExt cx="3929040" cy="2879640"/>
          </a:xfrm>
        </p:grpSpPr>
        <p:sp>
          <p:nvSpPr>
            <p:cNvPr id="53" name="Rectangle 7"/>
            <p:cNvSpPr/>
            <p:nvPr/>
          </p:nvSpPr>
          <p:spPr>
            <a:xfrm>
              <a:off x="4191120" y="3733920"/>
              <a:ext cx="392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4191120" y="3733920"/>
              <a:ext cx="2143080" cy="2879640"/>
              <a:chOff x="4191120" y="3733920"/>
              <a:chExt cx="2143080" cy="287964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4191120" y="3733920"/>
                <a:ext cx="2143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4191120" y="3733920"/>
                <a:ext cx="214308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  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grpSp>
        <p:nvGrpSpPr>
          <p:cNvPr id="57" name="Group 12"/>
          <p:cNvGrpSpPr/>
          <p:nvPr/>
        </p:nvGrpSpPr>
        <p:grpSpPr>
          <a:xfrm>
            <a:off x="3619440" y="3200400"/>
            <a:ext cx="1357200" cy="457200"/>
            <a:chOff x="3619440" y="3200400"/>
            <a:chExt cx="1357200" cy="457200"/>
          </a:xfrm>
        </p:grpSpPr>
        <p:sp>
          <p:nvSpPr>
            <p:cNvPr id="58" name="Rectangle 13"/>
            <p:cNvSpPr/>
            <p:nvPr/>
          </p:nvSpPr>
          <p:spPr>
            <a:xfrm>
              <a:off x="3619440" y="3200400"/>
              <a:ext cx="135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619440" y="3200400"/>
              <a:ext cx="13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21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0" name="Rectangle 17"/>
          <p:cNvSpPr/>
          <p:nvPr/>
        </p:nvSpPr>
        <p:spPr>
          <a:xfrm>
            <a:off x="2286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1" name="Group 23"/>
          <p:cNvGrpSpPr/>
          <p:nvPr/>
        </p:nvGrpSpPr>
        <p:grpSpPr>
          <a:xfrm>
            <a:off x="1760400" y="2552760"/>
            <a:ext cx="5537160" cy="1752480"/>
            <a:chOff x="1760400" y="2552760"/>
            <a:chExt cx="5537160" cy="1752480"/>
          </a:xfrm>
        </p:grpSpPr>
        <p:sp>
          <p:nvSpPr>
            <p:cNvPr id="62" name="Rectangle 20"/>
            <p:cNvSpPr/>
            <p:nvPr/>
          </p:nvSpPr>
          <p:spPr>
            <a:xfrm>
              <a:off x="1760400" y="25527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1760400" y="2552760"/>
              <a:ext cx="55371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8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64" name="Picture 22" descr="http://www.rctv.net/ImgContenido/ImagenesProgramas/home_millonario.jpg"/>
          <p:cNvPicPr/>
          <p:nvPr/>
        </p:nvPicPr>
        <p:blipFill>
          <a:blip r:embed="rId2"/>
          <a:stretch/>
        </p:blipFill>
        <p:spPr>
          <a:xfrm>
            <a:off x="838080" y="1905120"/>
            <a:ext cx="77662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3886200" y="12193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</a:rPr>
              <a:t>Me llamo _______ Picasso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pe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095880" y="35053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d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35053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b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6095880" y="4495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l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76" name="Group 3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77" name="Rectangle 2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79" name="Picture 31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6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81" name="Rectangle 3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2" name="Rectangle 3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83" name="Picture 35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0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85" name="Rectangle 37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6" name="Rectangle 38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87" name="Picture 39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ask_full_length.mp3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ask_audience.mp3" descr=""/>
          <p:cNvPicPr/>
          <p:nvPr/>
        </p:nvPicPr>
        <p:blipFill>
          <a:blip r:embed="rId5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65760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viej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095880" y="3505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came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505320" y="4495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abal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cocodril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03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05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07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09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11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13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14" name="ask_full_length.mp3" descr=""/>
          <p:cNvPicPr/>
          <p:nvPr/>
        </p:nvPicPr>
        <p:blipFill>
          <a:blip r:embed="rId4"/>
          <a:stretch/>
        </p:blipFill>
        <p:spPr>
          <a:xfrm>
            <a:off x="4572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ask_audience.mp3" descr=""/>
          <p:cNvPicPr/>
          <p:nvPr/>
        </p:nvPicPr>
        <p:blipFill>
          <a:blip r:embed="rId5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ame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7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71500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276720" y="3505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 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Málaga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943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adri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004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urci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Mancheste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30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1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32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34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36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2"/>
          <p:cNvGrpSpPr/>
          <p:nvPr/>
        </p:nvGrpSpPr>
        <p:grpSpPr>
          <a:xfrm>
            <a:off x="2536920" y="3040200"/>
            <a:ext cx="511200" cy="160200"/>
            <a:chOff x="2536920" y="3040200"/>
            <a:chExt cx="511200" cy="160200"/>
          </a:xfrm>
        </p:grpSpPr>
        <p:sp>
          <p:nvSpPr>
            <p:cNvPr id="138" name="Rectangle 23"/>
            <p:cNvSpPr/>
            <p:nvPr/>
          </p:nvSpPr>
          <p:spPr>
            <a:xfrm>
              <a:off x="2536920" y="3040200"/>
              <a:ext cx="511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2536920" y="3040200"/>
              <a:ext cx="51120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40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41" name="ask_audience.mp3" descr=""/>
          <p:cNvPicPr/>
          <p:nvPr/>
        </p:nvPicPr>
        <p:blipFill>
          <a:blip r:embed="rId4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8"/>
          <p:cNvSpPr/>
          <p:nvPr/>
        </p:nvSpPr>
        <p:spPr>
          <a:xfrm>
            <a:off x="3886200" y="12193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Dónde nació Picasso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4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743200" y="3429000"/>
            <a:ext cx="289548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638680" y="3429000"/>
            <a:ext cx="30481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666880" y="4419720"/>
            <a:ext cx="297180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5638680" y="4419720"/>
            <a:ext cx="312444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048120" y="35053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ez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867280" y="3505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048120" y="44956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ern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94360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 perr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57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59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61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2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63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65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6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67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68" name="ask_audience.mp3" descr=""/>
          <p:cNvPicPr/>
          <p:nvPr/>
        </p:nvPicPr>
        <p:blipFill>
          <a:blip r:embed="rId4"/>
          <a:stretch/>
        </p:blipFill>
        <p:spPr>
          <a:xfrm>
            <a:off x="8534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dog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4419720"/>
            <a:ext cx="2590560" cy="60948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638680" y="4419720"/>
            <a:ext cx="2590920" cy="60948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276720" y="3505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g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943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uz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27672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ch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943600" y="4495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leopard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84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86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88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90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192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194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195" name="ask_audience.mp3" descr=""/>
          <p:cNvPicPr/>
          <p:nvPr/>
        </p:nvPicPr>
        <p:blipFill>
          <a:blip r:embed="rId4"/>
          <a:stretch/>
        </p:blipFill>
        <p:spPr>
          <a:xfrm>
            <a:off x="8534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ask_full_length.mp3" descr=""/>
          <p:cNvPicPr/>
          <p:nvPr/>
        </p:nvPicPr>
        <p:blipFill>
          <a:blip r:embed="rId5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8"/>
          <p:cNvSpPr/>
          <p:nvPr/>
        </p:nvSpPr>
        <p:spPr>
          <a:xfrm>
            <a:off x="3857760" y="1285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owl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9900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alom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6095880" y="3505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recios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05320" y="449568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US" sz="2000" spc="-1" strike="noStrike">
                <a:solidFill>
                  <a:srgbClr val="ffffff"/>
                </a:solidFill>
                <a:latin typeface="Arial Unicode MS"/>
              </a:rPr>
              <a:t>pequeñ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pinguin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11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13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15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17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22"/>
          <p:cNvGrpSpPr/>
          <p:nvPr/>
        </p:nvGrpSpPr>
        <p:grpSpPr>
          <a:xfrm>
            <a:off x="8381880" y="3352680"/>
            <a:ext cx="762120" cy="76320"/>
            <a:chOff x="8381880" y="3352680"/>
            <a:chExt cx="762120" cy="76320"/>
          </a:xfrm>
        </p:grpSpPr>
        <p:sp>
          <p:nvSpPr>
            <p:cNvPr id="219" name="Rectangle 23"/>
            <p:cNvSpPr/>
            <p:nvPr/>
          </p:nvSpPr>
          <p:spPr>
            <a:xfrm>
              <a:off x="8381880" y="33526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8381880" y="3352680"/>
              <a:ext cx="762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21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22" name="ask_audience.mp3" descr=""/>
          <p:cNvPicPr/>
          <p:nvPr/>
        </p:nvPicPr>
        <p:blipFill>
          <a:blip r:embed="rId4"/>
          <a:stretch/>
        </p:blipFill>
        <p:spPr>
          <a:xfrm>
            <a:off x="8610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3" name="ask_full_length.mp3" descr=""/>
          <p:cNvPicPr/>
          <p:nvPr/>
        </p:nvPicPr>
        <p:blipFill>
          <a:blip r:embed="rId5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4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8"/>
          <p:cNvSpPr/>
          <p:nvPr/>
        </p:nvSpPr>
        <p:spPr>
          <a:xfrm>
            <a:off x="3962520" y="129528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dove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219320" y="380880"/>
            <a:ext cx="2209680" cy="56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 Unicode MS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Unicode MS"/>
              </a:rPr>
              <a:t>1000,000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4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5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3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7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1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48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24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9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12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8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9900"/>
                </a:solidFill>
                <a:latin typeface="Arial Unicode MS"/>
              </a:rPr>
              <a:t>300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6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,0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,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8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buClr>
                <a:srgbClr val="ffffff"/>
              </a:buClr>
              <a:buFont typeface="Arial Unicode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 Unicode MS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3048120" y="3429000"/>
            <a:ext cx="259056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638680" y="3429000"/>
            <a:ext cx="2590920" cy="53352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3048120" y="4419720"/>
            <a:ext cx="259056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5638680" y="4419720"/>
            <a:ext cx="2590920" cy="533160"/>
          </a:xfrm>
          <a:prstGeom prst="flowChartPreparation">
            <a:avLst/>
          </a:prstGeom>
          <a:solidFill>
            <a:srgbClr val="0033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95480" y="1066680"/>
            <a:ext cx="4800600" cy="1752840"/>
          </a:xfrm>
          <a:prstGeom prst="flowChartPreparation">
            <a:avLst/>
          </a:prstGeom>
          <a:solidFill>
            <a:srgbClr val="0033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191120" y="14479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50532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A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llin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09588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B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rand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505320" y="449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C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gat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6095880" y="44956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Arial Unicode MS"/>
              </a:rPr>
              <a:t>D:</a:t>
            </a:r>
            <a:r>
              <a:rPr b="0" lang="en-GB" sz="2000" spc="-1" strike="noStrike">
                <a:solidFill>
                  <a:srgbClr val="ffffff"/>
                </a:solidFill>
                <a:latin typeface="Arial Unicode MS"/>
              </a:rPr>
              <a:t> vaca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38" name="Rectangle 15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0" name="Picture 17" descr="http://mmdia.tf1.fr/mmdia/100/105/15/124315.GIF"/>
          <p:cNvPicPr/>
          <p:nvPr/>
        </p:nvPicPr>
        <p:blipFill>
          <a:blip r:embed="rId1"/>
          <a:stretch/>
        </p:blipFill>
        <p:spPr>
          <a:xfrm>
            <a:off x="7772400" y="22096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18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42" name="Rectangle 19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3" name="Rectangle 20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4" name="Picture 21" descr="http://mmdia.tf1.fr/mmdia/100/105/14/124314.GIF"/>
          <p:cNvPicPr/>
          <p:nvPr/>
        </p:nvPicPr>
        <p:blipFill>
          <a:blip r:embed="rId2"/>
          <a:stretch/>
        </p:blipFill>
        <p:spPr>
          <a:xfrm>
            <a:off x="7772400" y="380880"/>
            <a:ext cx="1143000" cy="72072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22"/>
          <p:cNvGrpSpPr/>
          <p:nvPr/>
        </p:nvGrpSpPr>
        <p:grpSpPr>
          <a:xfrm>
            <a:off x="2536920" y="3040200"/>
            <a:ext cx="4071960" cy="777600"/>
            <a:chOff x="2536920" y="3040200"/>
            <a:chExt cx="4071960" cy="777600"/>
          </a:xfrm>
        </p:grpSpPr>
        <p:sp>
          <p:nvSpPr>
            <p:cNvPr id="246" name="Rectangle 23"/>
            <p:cNvSpPr/>
            <p:nvPr/>
          </p:nvSpPr>
          <p:spPr>
            <a:xfrm>
              <a:off x="2536920" y="3040200"/>
              <a:ext cx="4071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47" name="Rectangle 24"/>
            <p:cNvSpPr/>
            <p:nvPr/>
          </p:nvSpPr>
          <p:spPr>
            <a:xfrm>
              <a:off x="2536920" y="3040200"/>
              <a:ext cx="407196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GB" sz="45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pic>
        <p:nvPicPr>
          <p:cNvPr id="248" name="Picture 25" descr="http://mmdia.tf1.fr/mmdia/100/105/16/124316.GIF"/>
          <p:cNvPicPr/>
          <p:nvPr/>
        </p:nvPicPr>
        <p:blipFill>
          <a:blip r:embed="rId3"/>
          <a:stretch/>
        </p:blipFill>
        <p:spPr>
          <a:xfrm>
            <a:off x="7772400" y="1295280"/>
            <a:ext cx="1143000" cy="720720"/>
          </a:xfrm>
          <a:prstGeom prst="rect">
            <a:avLst/>
          </a:prstGeom>
          <a:ln w="0">
            <a:noFill/>
          </a:ln>
        </p:spPr>
      </p:pic>
      <p:pic>
        <p:nvPicPr>
          <p:cNvPr id="249" name="ask_full_length.mp3" descr=""/>
          <p:cNvPicPr/>
          <p:nvPr/>
        </p:nvPicPr>
        <p:blipFill>
          <a:blip r:embed="rId4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ask_audience.mp3" descr=""/>
          <p:cNvPicPr/>
          <p:nvPr/>
        </p:nvPicPr>
        <p:blipFill>
          <a:blip r:embed="rId5"/>
          <a:stretch/>
        </p:blipFill>
        <p:spPr>
          <a:xfrm>
            <a:off x="8610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ring.mp3" descr=""/>
          <p:cNvPicPr/>
          <p:nvPr/>
        </p:nvPicPr>
        <p:blipFill>
          <a:blip r:embed="rId6"/>
          <a:stretch/>
        </p:blipFill>
        <p:spPr>
          <a:xfrm>
            <a:off x="8610480" y="1676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8"/>
          <p:cNvSpPr/>
          <p:nvPr/>
        </p:nvSpPr>
        <p:spPr>
          <a:xfrm>
            <a:off x="396252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¿Cómo se dice ‘cat’ en español?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41:48Z</dcterms:created>
  <dc:creator>Wendy Adeniji</dc:creator>
  <dc:description/>
  <dc:language>en-US</dc:language>
  <cp:lastModifiedBy>Teacher</cp:lastModifiedBy>
  <dcterms:modified xsi:type="dcterms:W3CDTF">2010-01-25T22:37:41Z</dcterms:modified>
  <cp:revision>31</cp:revision>
  <dc:subject/>
  <dc:title>PowerPoint Presentation</dc:title>
</cp:coreProperties>
</file>